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8.wmf" ContentType="image/x-wmf"/>
  <Override PartName="/ppt/media/image13.wmf" ContentType="image/x-wmf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31" spc="-1" strike="noStrike">
                <a:solidFill>
                  <a:srgbClr val="000000"/>
                </a:solidFill>
                <a:latin typeface="Arial"/>
              </a:defRPr>
            </a:pPr>
            <a:r>
              <a:rPr b="1" sz="1531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798095734968"/>
          <c:y val="0.020369907523119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2177731403"/>
          <c:y val="0.209197700574856"/>
          <c:w val="0.959958262684231"/>
          <c:h val="0.7700574856285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5</c:v>
                </c:pt>
                <c:pt idx="2">
                  <c:v>2</c:v>
                </c:pt>
                <c:pt idx="3">
                  <c:v>0</c:v>
                </c:pt>
                <c:pt idx="4">
                  <c:v>1</c:v>
                </c:pt>
                <c:pt idx="5">
                  <c:v>1</c:v>
                </c:pt>
                <c:pt idx="6">
                  <c:v>2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30964467005076</c:v>
                </c:pt>
                <c:pt idx="1">
                  <c:v>6.09137055837563</c:v>
                </c:pt>
                <c:pt idx="2">
                  <c:v>16.6497461928934</c:v>
                </c:pt>
                <c:pt idx="3">
                  <c:v>15.0253807106599</c:v>
                </c:pt>
                <c:pt idx="4">
                  <c:v>8.12182741116751</c:v>
                </c:pt>
                <c:pt idx="5">
                  <c:v>8.12182741116751</c:v>
                </c:pt>
                <c:pt idx="6">
                  <c:v>4.06091370558376</c:v>
                </c:pt>
                <c:pt idx="7">
                  <c:v>7.30964467005076</c:v>
                </c:pt>
                <c:pt idx="8">
                  <c:v>0.812182741116751</c:v>
                </c:pt>
                <c:pt idx="9">
                  <c:v>0.812182741116751</c:v>
                </c:pt>
                <c:pt idx="10">
                  <c:v>1.21827411167513</c:v>
                </c:pt>
                <c:pt idx="11">
                  <c:v>0.812182741116751</c:v>
                </c:pt>
                <c:pt idx="12">
                  <c:v>0.406091370558376</c:v>
                </c:pt>
                <c:pt idx="13">
                  <c:v>0.406091370558376</c:v>
                </c:pt>
                <c:pt idx="14">
                  <c:v>1.6243654822335</c:v>
                </c:pt>
                <c:pt idx="15">
                  <c:v>1.21827411167513</c:v>
                </c:pt>
              </c:numCache>
            </c:numRef>
          </c:val>
        </c:ser>
        <c:gapWidth val="100"/>
        <c:overlap val="0"/>
        <c:axId val="23763218"/>
        <c:axId val="52432796"/>
      </c:barChart>
      <c:catAx>
        <c:axId val="2376321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32796"/>
        <c:crossesAt val="0"/>
        <c:auto val="1"/>
        <c:lblAlgn val="ctr"/>
        <c:lblOffset val="100"/>
        <c:noMultiLvlLbl val="0"/>
      </c:catAx>
      <c:valAx>
        <c:axId val="52432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6321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44923895375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97561696468"/>
          <c:y val="0.209116353458617"/>
          <c:w val="0.959989655681986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3</c:v>
                </c:pt>
                <c:pt idx="2">
                  <c:v>2</c:v>
                </c:pt>
                <c:pt idx="3">
                  <c:v>1</c:v>
                </c:pt>
                <c:pt idx="4">
                  <c:v>3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47715736040609</c:v>
                </c:pt>
                <c:pt idx="1">
                  <c:v>3.73096446700508</c:v>
                </c:pt>
                <c:pt idx="2">
                  <c:v>10.1979695431472</c:v>
                </c:pt>
                <c:pt idx="3">
                  <c:v>9.20304568527919</c:v>
                </c:pt>
                <c:pt idx="4">
                  <c:v>4.9746192893401</c:v>
                </c:pt>
                <c:pt idx="5">
                  <c:v>4.9746192893401</c:v>
                </c:pt>
                <c:pt idx="6">
                  <c:v>2.48730964467005</c:v>
                </c:pt>
                <c:pt idx="7">
                  <c:v>4.47715736040609</c:v>
                </c:pt>
                <c:pt idx="8">
                  <c:v>0.49746192893401</c:v>
                </c:pt>
                <c:pt idx="9">
                  <c:v>0.49746192893401</c:v>
                </c:pt>
                <c:pt idx="10">
                  <c:v>0.746192893401015</c:v>
                </c:pt>
                <c:pt idx="11">
                  <c:v>0.49746192893401</c:v>
                </c:pt>
                <c:pt idx="12">
                  <c:v>0.248730964467005</c:v>
                </c:pt>
                <c:pt idx="13">
                  <c:v>0.248730964467005</c:v>
                </c:pt>
                <c:pt idx="14">
                  <c:v>0.99492385786802</c:v>
                </c:pt>
                <c:pt idx="15">
                  <c:v>0.746192893401015</c:v>
                </c:pt>
              </c:numCache>
            </c:numRef>
          </c:val>
        </c:ser>
        <c:gapWidth val="100"/>
        <c:overlap val="0"/>
        <c:axId val="23481854"/>
        <c:axId val="12191141"/>
      </c:barChart>
      <c:catAx>
        <c:axId val="2348185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91141"/>
        <c:crossesAt val="0"/>
        <c:auto val="1"/>
        <c:lblAlgn val="ctr"/>
        <c:lblOffset val="100"/>
        <c:noMultiLvlLbl val="0"/>
      </c:catAx>
      <c:valAx>
        <c:axId val="12191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8185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81524147098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748929257126"/>
          <c:y val="0.209116353458617"/>
          <c:w val="0.960013291980505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5</c:v>
                </c:pt>
                <c:pt idx="2">
                  <c:v>6</c:v>
                </c:pt>
                <c:pt idx="3">
                  <c:v>0</c:v>
                </c:pt>
                <c:pt idx="4">
                  <c:v>3</c:v>
                </c:pt>
                <c:pt idx="5">
                  <c:v>0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57868020304569</c:v>
                </c:pt>
                <c:pt idx="1">
                  <c:v>5.48223350253807</c:v>
                </c:pt>
                <c:pt idx="2">
                  <c:v>14.9847715736041</c:v>
                </c:pt>
                <c:pt idx="3">
                  <c:v>13.5228426395939</c:v>
                </c:pt>
                <c:pt idx="4">
                  <c:v>7.30964467005076</c:v>
                </c:pt>
                <c:pt idx="5">
                  <c:v>7.30964467005076</c:v>
                </c:pt>
                <c:pt idx="6">
                  <c:v>3.65482233502538</c:v>
                </c:pt>
                <c:pt idx="7">
                  <c:v>6.57868020304569</c:v>
                </c:pt>
                <c:pt idx="8">
                  <c:v>0.730964467005076</c:v>
                </c:pt>
                <c:pt idx="9">
                  <c:v>0.730964467005076</c:v>
                </c:pt>
                <c:pt idx="10">
                  <c:v>1.09644670050761</c:v>
                </c:pt>
                <c:pt idx="11">
                  <c:v>0.730964467005076</c:v>
                </c:pt>
                <c:pt idx="12">
                  <c:v>0.365482233502538</c:v>
                </c:pt>
                <c:pt idx="13">
                  <c:v>0.365482233502538</c:v>
                </c:pt>
                <c:pt idx="14">
                  <c:v>1.46192893401015</c:v>
                </c:pt>
                <c:pt idx="15">
                  <c:v>1.09644670050761</c:v>
                </c:pt>
              </c:numCache>
            </c:numRef>
          </c:val>
        </c:ser>
        <c:gapWidth val="100"/>
        <c:overlap val="0"/>
        <c:axId val="63786023"/>
        <c:axId val="48105879"/>
      </c:barChart>
      <c:catAx>
        <c:axId val="6378602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05879"/>
        <c:crossesAt val="0"/>
        <c:auto val="1"/>
        <c:lblAlgn val="ctr"/>
        <c:lblOffset val="100"/>
        <c:noMultiLvlLbl val="0"/>
      </c:catAx>
      <c:valAx>
        <c:axId val="48105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8602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31" spc="-1" strike="noStrike">
                <a:solidFill>
                  <a:srgbClr val="000000"/>
                </a:solidFill>
                <a:latin typeface="Arial"/>
              </a:defRPr>
            </a:pPr>
            <a:r>
              <a:rPr b="1" sz="1531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198947871832"/>
          <c:y val="0.020369907523119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56541019956"/>
          <c:y val="0.209197700574856"/>
          <c:w val="0.960001739054824"/>
          <c:h val="0.7700574856285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5</c:v>
                </c:pt>
                <c:pt idx="2">
                  <c:v>6</c:v>
                </c:pt>
                <c:pt idx="3">
                  <c:v>9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36974789915966</c:v>
                </c:pt>
                <c:pt idx="1">
                  <c:v>3.02521008403361</c:v>
                </c:pt>
                <c:pt idx="2">
                  <c:v>9.74789915966386</c:v>
                </c:pt>
                <c:pt idx="3">
                  <c:v>9.41176470588235</c:v>
                </c:pt>
                <c:pt idx="4">
                  <c:v>3.69747899159664</c:v>
                </c:pt>
                <c:pt idx="5">
                  <c:v>3.69747899159664</c:v>
                </c:pt>
                <c:pt idx="6">
                  <c:v>1.00840336134454</c:v>
                </c:pt>
                <c:pt idx="7">
                  <c:v>3.6974789915966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34453781512605</c:v>
                </c:pt>
              </c:numCache>
            </c:numRef>
          </c:val>
        </c:ser>
        <c:gapWidth val="100"/>
        <c:overlap val="0"/>
        <c:axId val="60164679"/>
        <c:axId val="5122216"/>
      </c:barChart>
      <c:catAx>
        <c:axId val="6016467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2216"/>
        <c:crossesAt val="0"/>
        <c:auto val="1"/>
        <c:lblAlgn val="ctr"/>
        <c:lblOffset val="100"/>
        <c:noMultiLvlLbl val="0"/>
      </c:catAx>
      <c:valAx>
        <c:axId val="5122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6467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227870548249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97561696468"/>
          <c:y val="0.209116353458617"/>
          <c:w val="0.959989655681986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8</c:v>
                </c:pt>
                <c:pt idx="3">
                  <c:v>8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82352941176471</c:v>
                </c:pt>
                <c:pt idx="1">
                  <c:v>2.64705882352941</c:v>
                </c:pt>
                <c:pt idx="2">
                  <c:v>8.52941176470588</c:v>
                </c:pt>
                <c:pt idx="3">
                  <c:v>8.23529411764706</c:v>
                </c:pt>
                <c:pt idx="4">
                  <c:v>3.23529411764706</c:v>
                </c:pt>
                <c:pt idx="5">
                  <c:v>3.23529411764706</c:v>
                </c:pt>
                <c:pt idx="6">
                  <c:v>0.882352941176471</c:v>
                </c:pt>
                <c:pt idx="7">
                  <c:v>3.2352941176470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17647058823529</c:v>
                </c:pt>
              </c:numCache>
            </c:numRef>
          </c:val>
        </c:ser>
        <c:gapWidth val="100"/>
        <c:overlap val="0"/>
        <c:axId val="67927113"/>
        <c:axId val="74700827"/>
      </c:barChart>
      <c:catAx>
        <c:axId val="6792711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00827"/>
        <c:crossesAt val="0"/>
        <c:auto val="1"/>
        <c:lblAlgn val="ctr"/>
        <c:lblOffset val="100"/>
        <c:noMultiLvlLbl val="0"/>
      </c:catAx>
      <c:valAx>
        <c:axId val="74700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2711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48" spc="-1" strike="noStrike">
                <a:solidFill>
                  <a:srgbClr val="000000"/>
                </a:solidFill>
                <a:latin typeface="Arial"/>
              </a:defRPr>
            </a:pPr>
            <a:r>
              <a:rPr b="1" sz="1548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316552937642"/>
          <c:y val="0.020553271858682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62250547187"/>
          <c:y val="0.209310076658149"/>
          <c:w val="0.9599588000515"/>
          <c:h val="0.77002555271636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3</c:v>
                </c:pt>
                <c:pt idx="3">
                  <c:v>3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9327731092437</c:v>
                </c:pt>
                <c:pt idx="1">
                  <c:v>2.72268907563025</c:v>
                </c:pt>
                <c:pt idx="2">
                  <c:v>8.77310924369748</c:v>
                </c:pt>
                <c:pt idx="3">
                  <c:v>8.47058823529412</c:v>
                </c:pt>
                <c:pt idx="4">
                  <c:v>3.32773109243697</c:v>
                </c:pt>
                <c:pt idx="5">
                  <c:v>3.32773109243697</c:v>
                </c:pt>
                <c:pt idx="6">
                  <c:v>0.907563025210084</c:v>
                </c:pt>
                <c:pt idx="7">
                  <c:v>3.3277310924369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21008403361345</c:v>
                </c:pt>
              </c:numCache>
            </c:numRef>
          </c:val>
        </c:ser>
        <c:gapWidth val="100"/>
        <c:overlap val="0"/>
        <c:axId val="14491178"/>
        <c:axId val="14257443"/>
      </c:barChart>
      <c:catAx>
        <c:axId val="144911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57443"/>
        <c:crossesAt val="0"/>
        <c:auto val="1"/>
        <c:lblAlgn val="ctr"/>
        <c:lblOffset val="100"/>
        <c:noMultiLvlLbl val="0"/>
      </c:catAx>
      <c:valAx>
        <c:axId val="14257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9117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31" spc="-1" strike="noStrike">
                <a:solidFill>
                  <a:srgbClr val="000000"/>
                </a:solidFill>
                <a:latin typeface="Arial"/>
              </a:defRPr>
            </a:pPr>
            <a:r>
              <a:rPr b="1" sz="1531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893874179384"/>
          <c:y val="0.02033107432507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2177731403"/>
          <c:y val="0.209310076658149"/>
          <c:w val="0.959958262684231"/>
          <c:h val="0.77002555271636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3</c:v>
                </c:pt>
                <c:pt idx="2">
                  <c:v>9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72093023255814</c:v>
                </c:pt>
                <c:pt idx="1">
                  <c:v>3.72093023255814</c:v>
                </c:pt>
                <c:pt idx="2">
                  <c:v>14.8837209302326</c:v>
                </c:pt>
                <c:pt idx="3">
                  <c:v>13.0232558139535</c:v>
                </c:pt>
                <c:pt idx="4">
                  <c:v>9.30232558139535</c:v>
                </c:pt>
                <c:pt idx="5">
                  <c:v>9.30232558139535</c:v>
                </c:pt>
                <c:pt idx="6">
                  <c:v>9.30232558139535</c:v>
                </c:pt>
                <c:pt idx="7">
                  <c:v>5.58139534883721</c:v>
                </c:pt>
                <c:pt idx="8">
                  <c:v>3.72093023255814</c:v>
                </c:pt>
                <c:pt idx="9">
                  <c:v>3.72093023255814</c:v>
                </c:pt>
                <c:pt idx="10">
                  <c:v>3.72093023255814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1044646"/>
        <c:axId val="64734201"/>
      </c:barChart>
      <c:catAx>
        <c:axId val="6104464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34201"/>
        <c:crossesAt val="0"/>
        <c:auto val="1"/>
        <c:lblAlgn val="ctr"/>
        <c:lblOffset val="100"/>
        <c:noMultiLvlLbl val="0"/>
      </c:catAx>
      <c:valAx>
        <c:axId val="64734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4464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29" spc="-1" strike="noStrike">
                <a:solidFill>
                  <a:srgbClr val="000000"/>
                </a:solidFill>
                <a:latin typeface="Arial"/>
              </a:defRPr>
            </a:pPr>
            <a:r>
              <a:rPr b="1" sz="1529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80826920569"/>
          <c:y val="0.02033107432507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2177731403"/>
          <c:y val="0.209310076658149"/>
          <c:w val="0.959958262684231"/>
          <c:h val="0.77002555271636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76744186046512</c:v>
                </c:pt>
                <c:pt idx="1">
                  <c:v>1.76744186046512</c:v>
                </c:pt>
                <c:pt idx="2">
                  <c:v>7.06976744186047</c:v>
                </c:pt>
                <c:pt idx="3">
                  <c:v>6.18604651162791</c:v>
                </c:pt>
                <c:pt idx="4">
                  <c:v>4.41860465116279</c:v>
                </c:pt>
                <c:pt idx="5">
                  <c:v>4.41860465116279</c:v>
                </c:pt>
                <c:pt idx="6">
                  <c:v>4.41860465116279</c:v>
                </c:pt>
                <c:pt idx="7">
                  <c:v>2.65116279069767</c:v>
                </c:pt>
                <c:pt idx="8">
                  <c:v>1.76744186046512</c:v>
                </c:pt>
                <c:pt idx="9">
                  <c:v>1.76744186046512</c:v>
                </c:pt>
                <c:pt idx="10">
                  <c:v>1.7674418604651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6967500"/>
        <c:axId val="49121492"/>
      </c:barChart>
      <c:catAx>
        <c:axId val="969675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21492"/>
        <c:crossesAt val="0"/>
        <c:auto val="1"/>
        <c:lblAlgn val="ctr"/>
        <c:lblOffset val="100"/>
        <c:noMultiLvlLbl val="0"/>
      </c:catAx>
      <c:valAx>
        <c:axId val="49121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6750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61" spc="-1" strike="noStrike">
                <a:solidFill>
                  <a:srgbClr val="000000"/>
                </a:solidFill>
                <a:latin typeface="Arial"/>
              </a:defRPr>
            </a:pPr>
            <a:r>
              <a:rPr b="1" sz="1561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02510531467"/>
          <c:y val="0.020664370625486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65975915918"/>
          <c:y val="0.209310076658149"/>
          <c:w val="0.960001702055232"/>
          <c:h val="0.77002555271636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5</c:v>
                </c:pt>
                <c:pt idx="1">
                  <c:v>0</c:v>
                </c:pt>
                <c:pt idx="2">
                  <c:v>0</c:v>
                </c:pt>
                <c:pt idx="3">
                  <c:v>2</c:v>
                </c:pt>
                <c:pt idx="4">
                  <c:v>2</c:v>
                </c:pt>
                <c:pt idx="5">
                  <c:v>8</c:v>
                </c:pt>
                <c:pt idx="6">
                  <c:v>8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5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10674157303371</c:v>
                </c:pt>
                <c:pt idx="1">
                  <c:v>3.10674157303371</c:v>
                </c:pt>
                <c:pt idx="2">
                  <c:v>15.9775280898876</c:v>
                </c:pt>
                <c:pt idx="3">
                  <c:v>13.314606741573</c:v>
                </c:pt>
                <c:pt idx="4">
                  <c:v>9.32022471910112</c:v>
                </c:pt>
                <c:pt idx="5">
                  <c:v>9.76404494382022</c:v>
                </c:pt>
                <c:pt idx="6">
                  <c:v>9.32022471910112</c:v>
                </c:pt>
                <c:pt idx="7">
                  <c:v>7.98876404494382</c:v>
                </c:pt>
                <c:pt idx="8">
                  <c:v>1.7752808988764</c:v>
                </c:pt>
                <c:pt idx="9">
                  <c:v>1.7752808988764</c:v>
                </c:pt>
                <c:pt idx="10">
                  <c:v>1.7752808988764</c:v>
                </c:pt>
                <c:pt idx="11">
                  <c:v>0</c:v>
                </c:pt>
                <c:pt idx="12">
                  <c:v>0.887640449438202</c:v>
                </c:pt>
                <c:pt idx="13">
                  <c:v>0.88764044943820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8867092"/>
        <c:axId val="97565868"/>
      </c:barChart>
      <c:catAx>
        <c:axId val="3886709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65868"/>
        <c:crossesAt val="0"/>
        <c:auto val="1"/>
        <c:lblAlgn val="ctr"/>
        <c:lblOffset val="100"/>
        <c:noMultiLvlLbl val="0"/>
      </c:catAx>
      <c:valAx>
        <c:axId val="97565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6709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FD53B-203E-440B-BEC9-B1ED604C751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DF5-DEDE-499D-BC68-39CF002C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AE7-148B-4A72-9CCE-C11C1E24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C3D-C49A-4489-9AE1-9C2E99AA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2E77-D136-4613-8ECD-A489353F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F10-B769-412E-91AC-E799D982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0D7-2417-41D5-A171-A2B3147A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21A-392E-4F1B-8190-3B932EFA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6BC-C181-4259-ADB7-3AF0AEF6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62C-225E-4A01-8509-386963D8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7EB-E458-4DCB-9C23-8229D840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71C-E374-4FC4-B831-6A985119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5E6-905B-4170-BD85-3C6F880A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F0A00-6122-49C8-BE07-C67B3CF3AE4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Britannic Bold"/>
              </a:rPr>
              <a:t>VISITA SEMEST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3933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OLA ESTADUAL IRMAN RIBEIRO DE ALME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TU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 –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fessora Luc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172908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0360" y="1440000"/>
          <a:ext cx="828036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51928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928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60360" y="1440000"/>
          <a:ext cx="828036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60360" y="1440000"/>
          <a:ext cx="84596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0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0" y="620640"/>
            <a:ext cx="4032360" cy="568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549360"/>
            <a:ext cx="36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75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ÇO – ABRIL– MA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essor Vol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21320" y="5300640"/>
            <a:ext cx="272268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31640" y="1619280"/>
          <a:ext cx="828072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60360" y="1619280"/>
          <a:ext cx="8280360" cy="306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668680" y="4670280"/>
          <a:ext cx="381132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8680" y="467028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60360" y="1619280"/>
          <a:ext cx="8280360" cy="306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4920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ESPER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-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FESSORA CRISTI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47800" cy="115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12000" y="5373720"/>
            <a:ext cx="26636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584360"/>
          <a:ext cx="828036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0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60360" y="1530360"/>
          <a:ext cx="8280360" cy="314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668680" y="4670280"/>
          <a:ext cx="381132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8680" y="467028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31640" y="1440000"/>
          <a:ext cx="838836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0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DMS</dc:creator>
  <dc:description/>
  <dc:language>en-US</dc:language>
  <cp:lastModifiedBy>SEDMS</cp:lastModifiedBy>
  <cp:revision>0</cp:revision>
  <dc:subject/>
  <dc:title>As tecnologias mais utilizadas na escola são:</dc:title>
</cp:coreProperties>
</file>